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7BF-3094-4753-8995-334B2997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E8B-691C-4583-91C2-32084453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C58-61CB-4DDD-9CD8-9B976DEC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9A2-7384-4EE7-940A-305D0A48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6A7-504B-4F1D-8236-C1608F0B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EE4-11F0-4353-9F8E-435297AD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3FC-2176-4EA4-951D-7963DC94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DB2-1E1A-47E6-8853-CD513F75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B89-7C0B-49DE-AEF6-82887EB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6F5-8EB2-424F-99B1-4E5A0054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503-4853-407E-9834-F2AD298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1ED-B47E-4789-9F29-63BC2DDB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AF7A-6643-4527-B34D-0E62C61CE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63.png"/><Relationship Id="rId3" Type="http://schemas.openxmlformats.org/officeDocument/2006/relationships/image" Target="../media/image65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Regressi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echniq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343400"/>
            <a:ext cx="3886200" cy="1587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gis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2210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580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678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Expected Value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in a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Linear Mod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6583" r="0" b="0"/>
          <a:stretch/>
        </p:blipFill>
        <p:spPr>
          <a:xfrm>
            <a:off x="990720" y="2590920"/>
            <a:ext cx="739116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53432"/>
          <a:stretch/>
        </p:blipFill>
        <p:spPr>
          <a:xfrm>
            <a:off x="990720" y="609480"/>
            <a:ext cx="7391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230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239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23888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18946" t="0" r="0" b="77180"/>
          <a:stretch/>
        </p:blipFill>
        <p:spPr>
          <a:xfrm>
            <a:off x="1447920" y="5410080"/>
            <a:ext cx="6629400" cy="60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rcRect l="13686" t="20022" r="68428" b="65734"/>
          <a:stretch/>
        </p:blipFill>
        <p:spPr>
          <a:xfrm>
            <a:off x="6934320" y="5486400"/>
            <a:ext cx="1295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08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16292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5029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939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40384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4572000"/>
            <a:ext cx="990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467840" cy="939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35053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286000" y="464832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618c6"/>
                </a:solidFill>
                <a:latin typeface="Arial"/>
              </a:rPr>
              <a:t>The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428" r="0" b="0"/>
          <a:stretch/>
        </p:blipFill>
        <p:spPr>
          <a:xfrm>
            <a:off x="990720" y="3276720"/>
            <a:ext cx="70102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99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4724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85565" r="0" b="0"/>
          <a:stretch/>
        </p:blipFill>
        <p:spPr>
          <a:xfrm>
            <a:off x="838080" y="304920"/>
            <a:ext cx="7086600" cy="425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0" t="0" r="0" b="16693"/>
          <a:stretch/>
        </p:blipFill>
        <p:spPr>
          <a:xfrm>
            <a:off x="914400" y="838080"/>
            <a:ext cx="693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6858000" cy="38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86000" y="2895480"/>
            <a:ext cx="342900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914400" y="4343400"/>
            <a:ext cx="686448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rcRect l="0" t="0" r="0" b="19063"/>
          <a:stretch/>
        </p:blipFill>
        <p:spPr>
          <a:xfrm>
            <a:off x="1828800" y="4952880"/>
            <a:ext cx="48006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47920" y="3429000"/>
            <a:ext cx="426708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09480" y="4800600"/>
            <a:ext cx="687096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rcRect l="0" t="0" r="0" b="22238"/>
          <a:stretch/>
        </p:blipFill>
        <p:spPr>
          <a:xfrm>
            <a:off x="1905120" y="5334120"/>
            <a:ext cx="2895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170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6858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066680" y="4800600"/>
            <a:ext cx="693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05720" y="42670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629400" y="40384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7010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6858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6782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6T16:43:43Z</dcterms:modified>
  <cp:revision>114</cp:revision>
  <dc:subject/>
  <dc:title>The Art in the State of the Art</dc:title>
</cp:coreProperties>
</file>